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A13-A24D-4C06-BE84-3023CF33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F55-3110-4CC0-9F65-5DA73FEC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9A3-2A3E-4B18-8F95-447B7884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1AE-3A37-43D3-B511-22E6C2FC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6D57-A547-4D17-91F5-81A3DFAC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BC25-E249-43BB-8218-0E9FE8DE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0398-126C-4E51-85F2-E78B676D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CEB4-8B2E-496B-A3AB-879774A3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4872-CFF8-4453-BD56-AA2E2392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5E47-7AC2-462C-AA46-1CA618ED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AE8E-CD49-4AB0-A220-DA43EE61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97A-5CB2-4298-8B17-C7B06C64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3343-C2B2-4A1E-A7BB-6764881E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546E-9807-493E-A960-34E19169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A857-2332-4F60-9AEA-761F33BE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68AA-B958-45CC-8339-629A180E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CDB2-9AF6-4EAD-99E3-68259C96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7CE-D9AC-4322-8B58-1A4831E7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8F3-2635-4B9F-A981-C015DD86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EA0-1B17-4733-ABF9-0FF95CFE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F96-09DF-4A3E-95BA-716E2424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692-5075-48EF-ADEB-63F5A4E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C4D-7553-4EE5-A11F-EDB8AD22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D99-6EB9-43E1-909A-821CBAA3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153-1D38-46D1-A242-1996BE3ABBBB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E7A3-8A12-4E48-9D9C-F7F2554A1187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404640"/>
            <a:ext cx="770400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19280" y="1125360"/>
            <a:ext cx="597708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بناء المساكن بين الحاجة والترف ....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للشيخ / عبدالسلام برجس -رحمه الله-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536920"/>
            <a:ext cx="21603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333360"/>
            <a:ext cx="7848360" cy="6048360"/>
          </a:xfrm>
          <a:prstGeom prst="rect">
            <a:avLst/>
          </a:prstGeom>
          <a:gradFill rotWithShape="0">
            <a:gsLst>
              <a:gs pos="0">
                <a:srgbClr val="aa84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e85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ية كريمة في سورة الشعراء، استوقفتني كثيراً، فيها عبرة، ونقد، وتوجيه: انها افتتاح الانتقادا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تي وجهها هود –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على نبينا وعليه الصلاة والسلام - الى قومه «عا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 بعد ان دعاهم الى الله، وأمرهم بطاعته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. وتتخذون مصانع لعلكم تخلدون. واذا بطشتم بطشتم جبارين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نه - عليه السلام - ينتقد عبثهم بالبنيان، والعبث بالبنيان: تشييده لمجرد التباهي بالقدرة عليه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رة جسمية في بنائ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عقلية في تصميمه وهندست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مالية في الانفاق عليه، فهو بناء لغير نفع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في هذا الانتقاد توجيه الى ان الجهد والبراعة وإنفاق المال انما يكون في البناء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ضروري المثمر خير الدين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سداد الدنيا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ذه الآية وجهت الى قوم «عاد» فما نصيبنا منها امة محمد صلى الله عليه وسلم؟ لبيان ذلك انقل أثرين من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ثار سلفنا الصالح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ول: عن مجاهد بن جبر - المتوفى وهو ساجد بمكة المكرمة سنة 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10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 - حيث قال:«ليس احد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شبه فِعالاً بعاد من 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ة محمد صلى الله عليه وسلم، قال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» فق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الله فعلوا. اخرجه ابن ابي حاتم في «تفسيره» «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9/279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ثاني: ما أخرجه ابن ابي حاتم - ايضاً - في تفسيره عن عون بن عبدالله بن عتبة، ان ابا الدرداء رضي الله عنه لم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رأى ما احدث المسلمون في الغوطة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ن البنيان، ونصب الشجر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ام في مسجدهم، فنادى: يا اهل دمشق! فاجتمعوا اليه. فحمد الله، واثنى عليه، ثم قال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لا تستحيون الا تستحيون، تجمعون مالا تأكلون، وتبنون مالا تسكنون، وتؤملون مالا تدركون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 كانت قبلكم قرون يجمعون فيوعون، ويبنون فيوثقون، ويأملون فيطيلون، فأصبح املهم غروراً، وأصبح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جمعهم بوراً، واصبح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ساكنهم قبوراً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 إن عاداًَ ملكت ما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عدن وعمان خيلاً وركاباً من يشتري مني ميراث عاد بدرهمين؟ففي هذي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اثرين غنى عن التوسع في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تعليق عما نعايشه هذه الايام من البناء للتباهي 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 للسكن، ابتداء من شراء الارض، فأجره المهندس، فالنار المحرقة للمال «البناء» فالاثاث المكمل «للديكور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هلاً فانا لا اريد إنكار البناء، فهذا لا يقوله احد، انما اريد ان امنع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يديك ما جاء به دين الا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ملة محمد عليه الصلاة وال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في قضية البناء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جمع علماء المسلمين على انه يلزم كل امرىء تحصيل مسكن له، ولمن تلزمه نفقته فمن حص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مسكناً له ولأهله، ببناء بيت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و اكترائه، فقد سلم من الاثم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كما رغّب الاسلام في سعة البيوت بكبر مساحتها، حيث صحَّ عن النبي صلى الله عليه وسلم ان 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ن سعادة المرء المسك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واسع وان المسكن الضيق من الشقاء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333360"/>
            <a:ext cx="813600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3500000"/>
          </a:gradFill>
          <a:ln cap="rnd" w="76320">
            <a:solidFill>
              <a:srgbClr val="5e85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للاسلام موقف واضح من المساكن التي شيدت على اساس التفاخر والتباه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، أوجز ذلك الموق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الفقرات التالية: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ليس لمن بنى بيتاً من غير حاجة، اوفوق ما يحتاجه، اجر، لما في «الصحيحين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عن خباب بن الار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رضي الله عنه انه قال وهو يبني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حائطاً له «إن المرء المسلم يؤجر في نفقته كلها، ال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ي شيء يجعله في التراب» ورواه الترمذي مرفوعاً الى النبي صلى الله عليه وسلم من قوله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معنى «في التراب» اي البنيان الذي لم يقصد به وجه الله، وقد زاد على ما يحتاجه لنفسه 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ياله على الوجه اللائق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لبناء بهذه الصفة من علامات قرب الساعة، وزوال الدنيا. ودليل ذلك ما رواه البخاري 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ن ابي هريرة رضي الله عن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ن رسول الله صلى الله عليه وسلم قال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« لا تقوم الساعة..وحتى يتطاول الناس في البنيان»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روى البخاري ايضاً في الادب المفرد عن ابي هريرة رضي الله عنه عن النبي صلى الله عليه وسلم ان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قال لا تقوم الساعة حتى يبن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اس بيوتاً يوشُّونها وشي المراحيل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ومعنى «يوشونها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8456"/>
              </a:gs>
            </a:gsLst>
            <a:lin ang="13500000"/>
          </a:gradFill>
          <a:ln cap="rnd" w="7632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ينقشونها ويصبغونها بأنواع الالوان المختلفة كما تنقش الثياب والفرش ومعنى:«المراحيل» الثياب المنقوش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بنقوش تشبه رحال الابل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خبر الصادق المصدوق عن حال الذين يبنون للمباهاة بما يردع غرورهم وتعاظمهم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في حديث عمر بن الخطاب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رضي الله عنه ا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بي صلى الله عليه وسلم اخبر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ن علامات الساعة فقال:«وان ترى الحفاة العراة العالة رعاء الشاء يتطاولون في البنيان».قال الحاف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بن رجب رحمه الله تعالى 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جامع العلوم والحكم «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/137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» والمراد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ن اسافل الناس يصيرون رؤساءهم، وتكثر اموالهم، حتى يتباهون بطول البنيان وزخرفته واتقانه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3:45:33Z</dcterms:created>
  <dc:creator>user</dc:creator>
  <dc:description/>
  <dc:language>en-US</dc:language>
  <cp:lastModifiedBy>user</cp:lastModifiedBy>
  <dcterms:modified xsi:type="dcterms:W3CDTF">2004-07-11T14:11:37Z</dcterms:modified>
  <cp:revision>6</cp:revision>
  <dc:subject/>
  <dc:title>Slide 1</dc:title>
</cp:coreProperties>
</file>